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E53-6355-473F-8FCE-2AC9C521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81F-BFB1-48E5-AB7D-E62F96C0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321-F415-4AE2-A818-F4719700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33D-24DC-46CC-8F71-7E4477D4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824-3D25-4BF0-8ECE-10883781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442-226A-4A02-88CC-498FB9F7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7B1-DDEA-4A2B-8777-A6A8C504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FAF-D038-498F-BF47-E6B2D602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5D0-FCEF-40EE-B984-7D01989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BB9-8E48-4206-BFB2-142DEDF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4AB-313F-4EAF-A718-EF7531D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A45-9B23-43D9-AA63-09AA12D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4881-F43A-49A8-A52B-704DF01E6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6:19:35Z</dcterms:created>
  <dc:creator>Rodzinka</dc:creator>
  <dc:description/>
  <dc:language>en-US</dc:language>
  <cp:lastModifiedBy>Rodzinka</cp:lastModifiedBy>
  <dcterms:modified xsi:type="dcterms:W3CDTF">2012-05-07T16:19:48Z</dcterms:modified>
  <cp:revision>1</cp:revision>
  <dc:subject/>
  <dc:title>Slajd 1</dc:title>
</cp:coreProperties>
</file>